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0.pct" ContentType="image/x-pict"/>
  <Override PartName="/ppt/media/image21.jpeg" ContentType="image/jpeg"/>
  <Override PartName="/ppt/media/image8.png" ContentType="image/png"/>
  <Override PartName="/ppt/media/image19.pct" ContentType="image/x-pict"/>
  <Override PartName="/ppt/media/image12.png" ContentType="image/png"/>
  <Override PartName="/ppt/media/image18.png" ContentType="image/png"/>
  <Override PartName="/ppt/media/image15.pct" ContentType="image/x-pict"/>
  <Override PartName="/ppt/media/image16.pct" ContentType="image/x-pict"/>
  <Override PartName="/ppt/media/image3.jpeg" ContentType="image/jpeg"/>
  <Override PartName="/ppt/media/image14.pct" ContentType="image/x-pict"/>
  <Override PartName="/ppt/media/image4.jpeg" ContentType="image/jpeg"/>
  <Override PartName="/ppt/media/image2.jpeg" ContentType="image/jpeg"/>
  <Override PartName="/ppt/media/image5.jpeg" ContentType="image/jpeg"/>
  <Override PartName="/ppt/media/image17.pct" ContentType="image/x-pict"/>
  <Override PartName="/ppt/media/image6.png" ContentType="image/png"/>
  <Override PartName="/ppt/media/image11.png" ContentType="image/png"/>
  <Override PartName="/ppt/media/image7.png" ContentType="image/png"/>
  <Override PartName="/ppt/media/image20.pct" ContentType="image/x-pict"/>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E7285-D0E7-45E0-9DCE-967430380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C00A1-952C-4537-91FD-436E1DCFF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0AD33-5ABE-4E1F-AE0F-1CB4E5E07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1803C-2CF1-4F76-9414-EA0110F23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1D67E31-D30E-4CB6-8E5E-E7D6F68A8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49E75D-5E37-4406-B0AC-0BDC90DC6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B10BA0-A78C-42C0-A4C4-4E7CE5D23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2DA499-C84B-4685-8E68-F932EA331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4E0A6E-827E-41B9-B3B1-AFA311790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DBBC04-1D1E-491B-9C1E-5D3A422F4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4F410C-4B32-43AE-82F8-64E722EEF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6A94F-C33C-4C9B-A995-A8338705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A2B6ED-0F37-4A9B-85FB-6B7C7A3F3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13FC32-FF01-4467-89D6-CE70391A3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9316B7-9685-4A6D-B4DC-620DFCCB2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0CCC7F-6C97-4A04-A7C5-F43874E39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914C621-3178-42F7-A1EE-BCBD76757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9BD3BD-EDF2-45CC-8628-68FC9735FB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E633A-5EF6-419E-B0BB-DF0396B87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95653-6177-4ECE-B097-860694910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BCB88-CDD2-47B8-BE22-5DDF9D4169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9CF89-D4F2-4363-965A-DB10F44D0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BF479-A83F-450F-994C-F6D8DF314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1065C-B256-4B7C-9DA2-686D9C380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43CC1-5B45-4A9F-9051-B000DD3A5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5322E-8FF4-4157-B5F8-6B106337F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511E9-F353-493A-BE2B-BF50F2A0E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68F55-E4F0-4708-A5DA-8512C8A08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78EC7F-5B11-4177-B6DD-1F3FDCC65E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6D2D42-ACAB-43F3-9644-572C75F699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FB5EF1-CCA2-4595-AEB3-799D129200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4DBDD-F582-4923-AEB7-4294B247D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C133E-9E13-4879-9B06-032506403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0153C-DE37-4C2E-A426-38B0E94CA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32869-5DEA-41AE-8E2C-DE427EE33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82DA3-8912-40CF-AF2C-0A8CF2DC5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787002-3D07-41B5-9855-9358971C8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AA767-1CC8-4707-9FD3-973049533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A7386-21EE-44D4-8995-3C1C2E6AB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21190-176C-4EE1-9439-A4FDEB313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A36C1-958B-4DFC-9FCC-3A7B7B550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03C6A9-5147-409C-AE3B-ABAE23C8FC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15291A-5B18-4021-B646-3980C87BF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299188-6235-47CE-9C8D-9EF124EF27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30957-4219-41F7-B36E-A71770BFC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7FBF4-293D-4850-8BBC-0C0416A65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296A5F-28EA-4F8B-8B64-853064172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6F82E-8250-4084-A75A-2844F04D4A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0F179B-F13A-4B2C-A94C-078C677D9A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0C48B-9CB4-450F-B4C4-63C15A1D00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5B1271-689F-481D-9216-45E97300D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6685F-60A2-4B00-B86C-35B022DA4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1F993-6DC2-4281-8557-607B6CA97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75CD3D-55E1-4469-9486-6B2D2E045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588DE7-72AF-417C-AD3E-B651E9701B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ABEEB-BFD7-4EE2-85E0-8BF373AE1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AA9FAD-C2B3-4985-BA13-45CE539C66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28F962-1384-4784-B706-2B367C9B72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4CE15-9C93-4DA6-9C44-04EC912BC7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011F47-C6C1-4972-90AE-DEDEF38F6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96AA2-7E0F-4740-9FAF-A7CC6D5D0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338ED4-E58A-4DAD-91E5-1287101190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03013C-3C25-49CD-9367-81F93B5B73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B30F2-C3C1-448B-A768-1ABCBD16F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25C3C-F891-4506-8FD4-EAF616115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0D20CB-B9B7-432C-9486-93D110655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4B21A-6269-4201-A028-680384912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352959-0C4F-4412-8A37-2F4D9CE0EC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34DC35-51E3-451A-B511-674F8BA535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DCA90A-9FC9-454A-88CB-E1B8CCB292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677C76-B23B-4E07-B8A0-1C0575D7F7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608DE0-7148-4E2A-ADB9-8ECBCF6A52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90D286-76BB-4B5E-ACF6-0F7C27AEF1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9EF7D-E06D-4BED-889F-168193B0B6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F859C2-4AD3-432E-9193-E3A5B1B3EA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840613-B483-44AF-B00C-05FB844BA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18979-08EC-42BB-B6F5-52B35662F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E41BB-645F-4CD4-843C-F888B2D94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BB450-563C-4139-A027-E3FA94C5C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CA5549-5A46-49E4-AFDE-ABFBFCE12B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181763-5DA8-4037-BEFD-FB1B3C01C4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89A2A4-E31B-421C-8367-AB447AF171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CD3AED-4427-4A12-9399-8073350678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E08388-3D79-475C-AB17-D824A98CFA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BFEAFA-6536-4777-8A59-2C0198CBAD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7590BB-A438-492E-AEF2-278104C6EB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03315-8A45-4E9D-ADD4-B917C0A06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550FD8-9F11-455D-8CF8-72DDCFE4D2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9AA3-CDDD-4485-BFF8-5507680BF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987F67-7138-4699-9DF6-5C0D2B7A8E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AD362F-9FD4-465A-84A3-BCE064EA4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10E09-451C-42BA-ADD7-178EE9CE9D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EA0F8-46FC-44D9-9179-B2260F436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65375A-27C1-442F-AB94-6D3776ACEF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B56AB7-4D48-4F88-B010-036F3ECB09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82BE9F-4B4E-4108-AC21-58665A46368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E6DBD-9F18-43A6-AB8F-0A91EFCEC89E}"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0692A-0323-49DB-A507-E9D5F7665300}"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4E97B-78ED-464A-B690-8DA4CD69D283}"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711F6-BAF4-4834-809A-984EF49E4597}"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242B8-5C3E-454C-A40B-C6E335F82359}"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8810C-5F7F-4B49-ACE5-1CED23547543}"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0DE81-6B9F-48F4-9199-432ECB510370}"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41A23-88FF-423B-A4CC-AB2234C8A10E}"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52840-15FA-4DDF-827D-F42BF4107EF9}"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C43A4-4691-468F-9AD7-E651AEF0F1B9}"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EF379-3173-4B4B-BF79-1128A3275212}"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C2999-BB65-47BC-8B7B-5C057A3CA9CD}"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28103-FA9C-46DC-B7EB-FEE9404FA3E7}"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C34DD-9351-4F88-B24D-A842E2684D8D}"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7AE6E-09D5-4F3A-BF27-90277F122CFE}"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4EA78-1AD8-4121-9787-BC35F17FBE56}"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u06uRIW5_qA" TargetMode="External"/><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CZjUxWxWq8I"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RSU #10</a:t>
            </a:r>
            <a:endParaRPr b="0" lang="en-US" sz="4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formally known as SAD 39, SAD 21, SAD 43, Hanover)</a:t>
            </a:r>
            <a:endParaRPr b="0" lang="en-US" sz="1800" spc="-1" strike="noStrike">
              <a:solidFill>
                <a:srgbClr val="262626"/>
              </a:solidFill>
              <a:latin typeface="Calisto MT"/>
            </a:endParaRPr>
          </a:p>
        </p:txBody>
      </p:sp>
      <p:pic>
        <p:nvPicPr>
          <p:cNvPr id="359" name="Picture 3" descr=""/>
          <p:cNvPicPr/>
          <p:nvPr/>
        </p:nvPicPr>
        <p:blipFill>
          <a:blip r:embed="rId1"/>
          <a:stretch/>
        </p:blipFill>
        <p:spPr>
          <a:xfrm>
            <a:off x="2819520" y="3048120"/>
            <a:ext cx="4025880" cy="29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The basic numbers</a:t>
            </a:r>
            <a:endParaRPr b="0" lang="en-US" sz="4700" spc="-1" strike="noStrike">
              <a:solidFill>
                <a:srgbClr val="ffffff"/>
              </a:solidFill>
              <a:latin typeface="Calisto MT"/>
            </a:endParaRPr>
          </a:p>
        </p:txBody>
      </p:sp>
      <p:sp>
        <p:nvSpPr>
          <p:cNvPr id="38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plementing the 140 plans that were approved, 125 have been deemed non-conforming</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state is providing $5000 grants to help with reorganization with the support of Mary McCalm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84% of all students in districts with approved plan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8 school districts organized into 26 RSUs</a:t>
            </a:r>
            <a:endParaRPr b="0" lang="en-US" sz="2000" spc="-1" strike="noStrike">
              <a:solidFill>
                <a:srgbClr val="262626"/>
              </a:solidFill>
              <a:latin typeface="Calisto MT"/>
            </a:endParaRPr>
          </a:p>
        </p:txBody>
      </p:sp>
      <p:pic>
        <p:nvPicPr>
          <p:cNvPr id="382" name="Picture 3" descr=""/>
          <p:cNvPicPr/>
          <p:nvPr/>
        </p:nvPicPr>
        <p:blipFill>
          <a:blip r:embed="rId1"/>
          <a:stretch/>
        </p:blipFill>
        <p:spPr>
          <a:xfrm>
            <a:off x="658800" y="3886200"/>
            <a:ext cx="193212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85" name="Picture 3" descr=""/>
          <p:cNvPicPr/>
          <p:nvPr/>
        </p:nvPicPr>
        <p:blipFill>
          <a:blip r:embed="rId1"/>
          <a:stretch/>
        </p:blipFill>
        <p:spPr>
          <a:xfrm>
            <a:off x="2057400" y="0"/>
            <a:ext cx="5559480" cy="727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In the News</a:t>
            </a:r>
            <a:endParaRPr b="0" lang="en-US" sz="4700" spc="-1" strike="noStrike">
              <a:solidFill>
                <a:srgbClr val="ffffff"/>
              </a:solidFill>
              <a:latin typeface="Calisto MT"/>
            </a:endParaRPr>
          </a:p>
        </p:txBody>
      </p:sp>
      <p:sp>
        <p:nvSpPr>
          <p:cNvPr id="387"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5.13.09 - RSU #10 Approved their budget after just 3 short months of the board organizing </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4.09 – The house narrowly rejected a bill to repeal Maine’s School district consolidation law and granted communities a 1 year reprieve from penalties.  This allowed the citizens initiative repeal to move forward and to be voted on in November.</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20.09 – Year long reprieve signed by the governor for penalties on small and rural schools districts as long as they continue to work in good faith towards mergers.</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7.1.09 – 97 districts officially merged into 25 larger RSUs, (the state is down to 218  districts), ~RSU #10 is formed</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November - if the referendum is repealed, the legislature would have an emergency session to allow the districts that are already an RSU to continue to exist</a:t>
            </a:r>
            <a:endParaRPr b="0" lang="en-US" sz="1600" spc="-1" strike="noStrike">
              <a:solidFill>
                <a:srgbClr val="262626"/>
              </a:solidFill>
              <a:latin typeface="Calisto MT"/>
            </a:endParaRPr>
          </a:p>
        </p:txBody>
      </p:sp>
      <p:pic>
        <p:nvPicPr>
          <p:cNvPr id="388" name="Picture 3" descr=""/>
          <p:cNvPicPr/>
          <p:nvPr/>
        </p:nvPicPr>
        <p:blipFill>
          <a:blip r:embed="rId1"/>
          <a:stretch/>
        </p:blipFill>
        <p:spPr>
          <a:xfrm>
            <a:off x="0" y="4897440"/>
            <a:ext cx="2286000" cy="19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RSU 10 now</a:t>
            </a:r>
            <a:br>
              <a:rPr sz="4700"/>
            </a:br>
            <a:endParaRPr b="0" lang="en-US" sz="4700" spc="-1" strike="noStrike">
              <a:solidFill>
                <a:srgbClr val="ffffff"/>
              </a:solidFill>
              <a:latin typeface="Calisto MT"/>
            </a:endParaRPr>
          </a:p>
        </p:txBody>
      </p:sp>
      <p:sp>
        <p:nvSpPr>
          <p:cNvPr id="390" name=""/>
          <p:cNvSpPr txBox="1"/>
          <p:nvPr/>
        </p:nvSpPr>
        <p:spPr>
          <a:xfrm>
            <a:off x="2286000" y="2285640"/>
            <a:ext cx="6197760" cy="3840120"/>
          </a:xfrm>
          <a:prstGeom prst="rect">
            <a:avLst/>
          </a:prstGeom>
          <a:noFill/>
          <a:ln w="0">
            <a:noFill/>
          </a:ln>
        </p:spPr>
        <p:txBody>
          <a:bodyPr anchor="t">
            <a:normAutofit fontScale="97000"/>
          </a:bodyPr>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sto MT"/>
            </a:endParaRPr>
          </a:p>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As of 2009:</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RSU 10: 2,975 students; 11 schools</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ed into one Central office in Dixfield</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ations of many directors including transportation, special education and food services </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Trying to get equality between the schools for staff and students – each school can be different but there needs to be consistencies with curriculum and staff development</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So many small things to consider now that we are one large district</a:t>
            </a:r>
            <a:endParaRPr b="0" lang="en-US" sz="17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are we going?</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fontScale="95000"/>
          </a:bodyPr>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Schools are going to continue to keep their individual personalities for now</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3 unique high schools  with very strong programs, can we share the unique programs?  Students should be able to go to a school that is the best setting for them – small school setting, arts program, technical programs</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Not as many superintendent agreements with SAD 17 – offer these programs within the RSU</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Have 3 teacher contracts to negotiate into one this year</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Offer sports programs to students which their high school does not currently have – lax, X-country skiing</a:t>
            </a:r>
            <a:endParaRPr b="0" lang="en-US" sz="19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What does this change mean?</a:t>
            </a:r>
            <a:endParaRPr b="0" lang="en-US" sz="4600" spc="-1" strike="noStrike">
              <a:solidFill>
                <a:srgbClr val="ffffff"/>
              </a:solidFill>
              <a:latin typeface="Calisto MT"/>
            </a:endParaRPr>
          </a:p>
        </p:txBody>
      </p:sp>
      <p:sp>
        <p:nvSpPr>
          <p:cNvPr id="394" name="PlaceHolder 2"/>
          <p:cNvSpPr>
            <a:spLocks noGrp="1"/>
          </p:cNvSpPr>
          <p:nvPr>
            <p:ph type="subTitle"/>
          </p:nvPr>
        </p:nvSpPr>
        <p:spPr>
          <a:xfrm>
            <a:off x="685440" y="2209320"/>
            <a:ext cx="7799400" cy="46692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8989"/>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at does this mean for RSU 10</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will be improvements in technology, maintenance, central office services and curriculum/ instruc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an initial $600,000 in savings which saved many programs that would otherwise had to be cu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greater access and support to district wide resources</a:t>
            </a:r>
            <a:endParaRPr b="0" lang="en-US" sz="2000" spc="-1" strike="noStrike">
              <a:solidFill>
                <a:srgbClr val="262626"/>
              </a:solidFill>
              <a:latin typeface="Calisto MT"/>
            </a:endParaRPr>
          </a:p>
        </p:txBody>
      </p:sp>
      <p:pic>
        <p:nvPicPr>
          <p:cNvPr id="397" name="Picture 3" descr=""/>
          <p:cNvPicPr/>
          <p:nvPr/>
        </p:nvPicPr>
        <p:blipFill>
          <a:blip r:embed="rId1"/>
          <a:stretch/>
        </p:blipFill>
        <p:spPr>
          <a:xfrm>
            <a:off x="546120" y="4272120"/>
            <a:ext cx="1739880" cy="18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udents</a:t>
            </a:r>
            <a:endParaRPr b="0" lang="en-US" sz="5200" spc="-1" strike="noStrike">
              <a:solidFill>
                <a:srgbClr val="ffffff"/>
              </a:solidFill>
              <a:latin typeface="Calisto MT"/>
            </a:endParaRPr>
          </a:p>
        </p:txBody>
      </p:sp>
      <p:sp>
        <p:nvSpPr>
          <p:cNvPr id="399" name=""/>
          <p:cNvSpPr txBox="1"/>
          <p:nvPr/>
        </p:nvSpPr>
        <p:spPr>
          <a:xfrm>
            <a:off x="2286000" y="2285640"/>
            <a:ext cx="6197760" cy="3840120"/>
          </a:xfrm>
          <a:prstGeom prst="rect">
            <a:avLst/>
          </a:prstGeom>
          <a:noFill/>
          <a:ln w="0">
            <a:noFill/>
          </a:ln>
        </p:spPr>
        <p:txBody>
          <a:bodyPr anchor="t">
            <a:normAutofit fontScale="93000"/>
          </a:bodyPr>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 is going to streamline the system bette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stant learning opportunities – AP calculu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uckfield and Dirigo High School receiving laptop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t>
            </a:r>
            <a:r>
              <a:rPr b="0" lang="en-US" sz="2000" spc="-1" strike="noStrike">
                <a:solidFill>
                  <a:srgbClr val="262626"/>
                </a:solidFill>
                <a:latin typeface="Calisto MT"/>
              </a:rPr>
              <a:t>The school’s should keep their own personalities and my hope that the only changes that will be noticeable will be positive.  Schools to students and staff should feel the same” ~ Dr. Tom</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Effects of the penalties </a:t>
            </a:r>
            <a:endParaRPr b="0" lang="en-US" sz="2000" spc="-1" strike="noStrike">
              <a:solidFill>
                <a:srgbClr val="262626"/>
              </a:solidFill>
              <a:latin typeface="Calisto MT"/>
            </a:endParaRPr>
          </a:p>
        </p:txBody>
      </p:sp>
      <p:pic>
        <p:nvPicPr>
          <p:cNvPr id="400" name="Picture 3" descr=""/>
          <p:cNvPicPr/>
          <p:nvPr/>
        </p:nvPicPr>
        <p:blipFill>
          <a:blip r:embed="rId2"/>
          <a:stretch/>
        </p:blipFill>
        <p:spPr>
          <a:xfrm>
            <a:off x="457200" y="4203720"/>
            <a:ext cx="1214280" cy="221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aff</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fontScale="99000"/>
          </a:bodyPr>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any teacher positions were saved this year through consolidatio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This stabilized the support staff positions and made it possible to continue to support the students the way that they need to be</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Don’t know what will happen in future years but we will try to retain staff in the positions they are i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Possible to move staff between schools to retain staff -  could be used to keep programs open but would not be ideal</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use expertise of people with in the district to teach others</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p:txBody>
      </p:sp>
      <p:pic>
        <p:nvPicPr>
          <p:cNvPr id="403" name="Picture 3" descr=""/>
          <p:cNvPicPr/>
          <p:nvPr/>
        </p:nvPicPr>
        <p:blipFill>
          <a:blip r:embed="rId1"/>
          <a:stretch/>
        </p:blipFill>
        <p:spPr>
          <a:xfrm>
            <a:off x="228600" y="3962520"/>
            <a:ext cx="1879560" cy="2616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Community</a:t>
            </a:r>
            <a:endParaRPr b="0" lang="en-US" sz="5200" spc="-1" strike="noStrike">
              <a:solidFill>
                <a:srgbClr val="ffffff"/>
              </a:solidFill>
              <a:latin typeface="Calisto MT"/>
            </a:endParaRPr>
          </a:p>
        </p:txBody>
      </p:sp>
      <p:sp>
        <p:nvSpPr>
          <p:cNvPr id="405"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should be no effects on local contr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ommunities still have board representativ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on of a new website will enhance communications and the access to information</a:t>
            </a:r>
            <a:endParaRPr b="0" lang="en-US" sz="2000" spc="-1" strike="noStrike">
              <a:solidFill>
                <a:srgbClr val="262626"/>
              </a:solidFill>
              <a:latin typeface="Calisto MT"/>
            </a:endParaRPr>
          </a:p>
        </p:txBody>
      </p:sp>
      <p:pic>
        <p:nvPicPr>
          <p:cNvPr id="406" name="Picture 3" descr=""/>
          <p:cNvPicPr/>
          <p:nvPr/>
        </p:nvPicPr>
        <p:blipFill>
          <a:blip r:embed="rId1"/>
          <a:stretch/>
        </p:blipFill>
        <p:spPr>
          <a:xfrm>
            <a:off x="3809880" y="4064040"/>
            <a:ext cx="1905120" cy="24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120080" y="693720"/>
            <a:ext cx="1490400" cy="5432400"/>
          </a:xfrm>
          <a:prstGeom prst="rect">
            <a:avLst/>
          </a:prstGeom>
          <a:noFill/>
          <a:ln w="0">
            <a:noFill/>
          </a:ln>
        </p:spPr>
        <p:txBody>
          <a:bodyPr lIns="90000" rIns="90000" tIns="0" bIns="0" anchor="b" vert="eaVert">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61" name="PlaceHolder 2"/>
          <p:cNvSpPr>
            <a:spLocks noGrp="1"/>
          </p:cNvSpPr>
          <p:nvPr>
            <p:ph/>
          </p:nvPr>
        </p:nvSpPr>
        <p:spPr>
          <a:xfrm>
            <a:off x="457200" y="693720"/>
            <a:ext cx="6019920" cy="5432400"/>
          </a:xfrm>
          <a:prstGeom prst="rect">
            <a:avLst/>
          </a:prstGeom>
          <a:noFill/>
          <a:ln w="0">
            <a:noFill/>
          </a:ln>
        </p:spPr>
        <p:txBody>
          <a:bodyPr lIns="90000" rIns="90000" tIns="46800" bIns="46800" anchor="t" vert="eaVe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62" name="Picture 3" descr=""/>
          <p:cNvPicPr/>
          <p:nvPr/>
        </p:nvPicPr>
        <p:blipFill>
          <a:blip r:embed="rId1"/>
          <a:stretch/>
        </p:blipFill>
        <p:spPr>
          <a:xfrm>
            <a:off x="457200" y="1219320"/>
            <a:ext cx="6337440" cy="436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ros / Cons</a:t>
            </a:r>
            <a:endParaRPr b="0" lang="en-US" sz="5200" spc="-1" strike="noStrike">
              <a:solidFill>
                <a:srgbClr val="ffffff"/>
              </a:solidFill>
              <a:latin typeface="Calisto MT"/>
            </a:endParaRPr>
          </a:p>
        </p:txBody>
      </p:sp>
      <p:sp>
        <p:nvSpPr>
          <p:cNvPr id="40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aff</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mmun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as it worth it?</a:t>
            </a:r>
            <a:endParaRPr b="0" lang="en-US" sz="5200" spc="-1" strike="noStrike">
              <a:solidFill>
                <a:srgbClr val="ffffff"/>
              </a:solidFill>
              <a:latin typeface="Calisto MT"/>
            </a:endParaRPr>
          </a:p>
        </p:txBody>
      </p:sp>
      <p:sp>
        <p:nvSpPr>
          <p:cNvPr id="41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sto MT"/>
              </a:rPr>
              <a:t>“</a:t>
            </a:r>
            <a:r>
              <a:rPr b="0" lang="en-US" sz="3200" spc="-1" strike="noStrike">
                <a:solidFill>
                  <a:srgbClr val="262626"/>
                </a:solidFill>
                <a:latin typeface="Calisto MT"/>
              </a:rPr>
              <a:t>It was the right thing to do for the children of the RSU and the right time” ~ Dr. Tom</a:t>
            </a:r>
            <a:endParaRPr b="0" lang="en-US" sz="3200" spc="-1" strike="noStrike">
              <a:solidFill>
                <a:srgbClr val="262626"/>
              </a:solidFill>
              <a:latin typeface="Calisto MT"/>
            </a:endParaRPr>
          </a:p>
        </p:txBody>
      </p:sp>
      <p:pic>
        <p:nvPicPr>
          <p:cNvPr id="411" name="Picture 3" descr=""/>
          <p:cNvPicPr/>
          <p:nvPr/>
        </p:nvPicPr>
        <p:blipFill>
          <a:blip r:embed="rId1"/>
          <a:stretch/>
        </p:blipFill>
        <p:spPr>
          <a:xfrm>
            <a:off x="6781680" y="3406680"/>
            <a:ext cx="141624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School Leaders with this change</a:t>
            </a:r>
            <a:endParaRPr b="0" lang="en-US" sz="4700" spc="-1" strike="noStrike">
              <a:solidFill>
                <a:srgbClr val="ffffff"/>
              </a:solidFill>
              <a:latin typeface="Calisto MT"/>
            </a:endParaRPr>
          </a:p>
        </p:txBody>
      </p:sp>
      <p:sp>
        <p:nvSpPr>
          <p:cNvPr id="41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tinue to focus on the 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new opportunities that can now be offered because of the cooperativeness of the three old distric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the positive in all the new changes</a:t>
            </a:r>
            <a:endParaRPr b="0" lang="en-US" sz="2000" spc="-1" strike="noStrike">
              <a:solidFill>
                <a:srgbClr val="262626"/>
              </a:solidFill>
              <a:latin typeface="Calisto MT"/>
            </a:endParaRPr>
          </a:p>
        </p:txBody>
      </p:sp>
      <p:pic>
        <p:nvPicPr>
          <p:cNvPr id="414" name="Picture 3" descr=""/>
          <p:cNvPicPr/>
          <p:nvPr/>
        </p:nvPicPr>
        <p:blipFill>
          <a:blip r:embed="rId1"/>
          <a:stretch/>
        </p:blipFill>
        <p:spPr>
          <a:xfrm>
            <a:off x="3962520" y="4335480"/>
            <a:ext cx="1611360" cy="18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hilosophical difference </a:t>
            </a:r>
            <a:endParaRPr b="0" lang="en-US" sz="5200" spc="-1" strike="noStrike">
              <a:solidFill>
                <a:srgbClr val="ffffff"/>
              </a:solidFill>
              <a:latin typeface="Calisto MT"/>
            </a:endParaRPr>
          </a:p>
        </p:txBody>
      </p:sp>
      <p:sp>
        <p:nvSpPr>
          <p:cNvPr id="41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are many philosophical difference between the schools, and teache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makes for a more equitable curriculum even if it is not all the same</a:t>
            </a:r>
            <a:endParaRPr b="0" lang="en-US" sz="2000" spc="-1" strike="noStrike">
              <a:solidFill>
                <a:srgbClr val="262626"/>
              </a:solidFill>
              <a:latin typeface="Calisto MT"/>
            </a:endParaRPr>
          </a:p>
        </p:txBody>
      </p:sp>
      <p:pic>
        <p:nvPicPr>
          <p:cNvPr id="417" name="Picture 3" descr=""/>
          <p:cNvPicPr/>
          <p:nvPr/>
        </p:nvPicPr>
        <p:blipFill>
          <a:blip r:embed="rId1"/>
          <a:stretch/>
        </p:blipFill>
        <p:spPr>
          <a:xfrm>
            <a:off x="3695760" y="4073400"/>
            <a:ext cx="2247840" cy="20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FUTURE?</a:t>
            </a:r>
            <a:endParaRPr b="0" lang="en-US" sz="5200" spc="-1" strike="noStrike">
              <a:solidFill>
                <a:srgbClr val="ffffff"/>
              </a:solidFill>
              <a:latin typeface="Calisto MT"/>
            </a:endParaRPr>
          </a:p>
        </p:txBody>
      </p:sp>
      <p:sp>
        <p:nvSpPr>
          <p:cNvPr id="419"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0" name=""/>
          <p:cNvSpPr txBox="1"/>
          <p:nvPr/>
        </p:nvSpPr>
        <p:spPr>
          <a:xfrm>
            <a:off x="483084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o does this effect?</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them?</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education in Maine?</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421" name="Picture 3" descr=""/>
          <p:cNvPicPr/>
          <p:nvPr/>
        </p:nvPicPr>
        <p:blipFill>
          <a:blip r:embed="rId1"/>
          <a:stretch/>
        </p:blipFill>
        <p:spPr>
          <a:xfrm>
            <a:off x="658800" y="2682720"/>
            <a:ext cx="3581280" cy="25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98880" y="1676160"/>
            <a:ext cx="5395680" cy="133956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21 + 39 + 43 = 10</a:t>
            </a:r>
            <a:endParaRPr b="0" lang="en-US" sz="4600" spc="-1" strike="noStrike">
              <a:solidFill>
                <a:srgbClr val="ffffff"/>
              </a:solidFill>
              <a:latin typeface="Calisto MT"/>
            </a:endParaRPr>
          </a:p>
        </p:txBody>
      </p:sp>
      <p:sp>
        <p:nvSpPr>
          <p:cNvPr id="364" name="PlaceHolder 2"/>
          <p:cNvSpPr>
            <a:spLocks noGrp="1"/>
          </p:cNvSpPr>
          <p:nvPr>
            <p:ph/>
          </p:nvPr>
        </p:nvSpPr>
        <p:spPr>
          <a:xfrm>
            <a:off x="3098880" y="4979880"/>
            <a:ext cx="5395680" cy="811440"/>
          </a:xfrm>
          <a:prstGeom prst="rect">
            <a:avLst/>
          </a:prstGeom>
          <a:noFill/>
          <a:ln w="0">
            <a:noFill/>
          </a:ln>
        </p:spPr>
        <p:txBody>
          <a:bodyPr tIns="0" bIns="0" anchor="t">
            <a:norm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sto MT"/>
              </a:rPr>
              <a:t>Don’t worry, I am not a math teach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Vocabulary</a:t>
            </a:r>
            <a:endParaRPr b="0" lang="en-US" sz="5200" spc="-1" strike="noStrike">
              <a:solidFill>
                <a:srgbClr val="ffffff"/>
              </a:solidFill>
              <a:latin typeface="Calisto MT"/>
            </a:endParaRPr>
          </a:p>
        </p:txBody>
      </p:sp>
      <p:sp>
        <p:nvSpPr>
          <p:cNvPr id="36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is a broad term applied to describe the combining of schools districts, or administrative units in rural areas of America in an effort to create administrative efficiencies that provide a broader academic experience for students in sparsely-populated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SU – Regional School Unit</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Law</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2007, a law passed requiring all school units in the state of Maine to: 1. work with other units to reorganize into larger, more efficient units; or 2. prove that expansion of their unit would me impractical, but need to reorganize administrative structures to reduce costs. </a:t>
            </a:r>
            <a:endParaRPr b="0" lang="en-US" sz="2000" spc="-1" strike="noStrike">
              <a:solidFill>
                <a:srgbClr val="262626"/>
              </a:solidFill>
              <a:latin typeface="Calisto MT"/>
            </a:endParaRPr>
          </a:p>
        </p:txBody>
      </p:sp>
      <p:pic>
        <p:nvPicPr>
          <p:cNvPr id="369" name="Picture 3" descr=""/>
          <p:cNvPicPr/>
          <p:nvPr/>
        </p:nvPicPr>
        <p:blipFill>
          <a:blip r:embed="rId1"/>
          <a:stretch/>
        </p:blipFill>
        <p:spPr>
          <a:xfrm>
            <a:off x="725400" y="4114800"/>
            <a:ext cx="312120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a:t>
            </a:r>
            <a:endParaRPr b="0" lang="en-US" sz="5200" spc="-1" strike="noStrike">
              <a:solidFill>
                <a:srgbClr val="ffffff"/>
              </a:solidFill>
              <a:latin typeface="Calisto MT"/>
            </a:endParaRPr>
          </a:p>
        </p:txBody>
      </p:sp>
      <p:sp>
        <p:nvSpPr>
          <p:cNvPr id="37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s is all in effort to have: equitable educational opportunities, rigorous academic programs, uniformity in delivering programs, a greater uniformity in tax rates, more efficient and effective use of limited resources, preservation of school choice and maximum opportunity to deliver services in an efficient mann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This has been done already in one school district in Maine</a:t>
            </a:r>
            <a:endParaRPr b="0" lang="en-US" sz="2000" spc="-1" strike="noStrike">
              <a:solidFill>
                <a:srgbClr val="262626"/>
              </a:solidFill>
              <a:latin typeface="Calisto MT"/>
            </a:endParaRPr>
          </a:p>
        </p:txBody>
      </p:sp>
      <p:pic>
        <p:nvPicPr>
          <p:cNvPr id="372" name="Picture 3" descr=""/>
          <p:cNvPicPr/>
          <p:nvPr/>
        </p:nvPicPr>
        <p:blipFill>
          <a:blip r:embed="rId2"/>
          <a:stretch/>
        </p:blipFill>
        <p:spPr>
          <a:xfrm>
            <a:off x="676440" y="3962520"/>
            <a:ext cx="1728720" cy="24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Forced to do it?</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fontScale="98000"/>
          </a:bodyPr>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enalty written into the consolidation mandate was the law's primary enforcement mechanism. Delaying penalties doesn't change that fact, said David Connerty-Marin, spokesman for the Maine Department of Education.</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reduced subsidy is still there for next year, and the year after, and each year after that," he said. "I think the districts are very clear on what's facing them if they don't conform. Everyone is becoming increasingly clear with the financial reality of the revenue picture."</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were we?</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aim was for each district to be around 2,500 student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s of 200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43: 1,591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21: 1,003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39: 629 students; 2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anover: ?? students; 1 scho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7" name="Picture 4" descr=""/>
          <p:cNvPicPr/>
          <p:nvPr/>
        </p:nvPicPr>
        <p:blipFill>
          <a:blip r:embed="rId1"/>
          <a:stretch/>
        </p:blipFill>
        <p:spPr>
          <a:xfrm>
            <a:off x="6934320" y="3743280"/>
            <a:ext cx="1850760" cy="242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Process</a:t>
            </a:r>
            <a:endParaRPr b="0" lang="en-US" sz="5200" spc="-1" strike="noStrike">
              <a:solidFill>
                <a:srgbClr val="ffffff"/>
              </a:solidFill>
              <a:latin typeface="Calisto MT"/>
            </a:endParaRPr>
          </a:p>
        </p:txBody>
      </p:sp>
      <p:sp>
        <p:nvSpPr>
          <p:cNvPr id="379"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an approved by the DO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organization planning committe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ncial plann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s transferr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ng new budge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ansition wor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E Suppor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12:06:33Z</dcterms:created>
  <dc:creator>Abigail Wood</dc:creator>
  <dc:description/>
  <dc:language>en-US</dc:language>
  <cp:lastModifiedBy>Abigail Wood</cp:lastModifiedBy>
  <cp:lastPrinted>2009-07-21T16:01:17Z</cp:lastPrinted>
  <dcterms:modified xsi:type="dcterms:W3CDTF">2009-07-22T00:07:03Z</dcterms:modified>
  <cp:revision>5</cp:revision>
  <dc:subject/>
  <dc:title>RSU #10</dc:title>
</cp:coreProperties>
</file>